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BFD-193C-4626-877B-801F7AB0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7B4-5E71-46E5-AC0C-A2D4F546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DED-87A8-4BA4-894C-E0131370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7B0-03DC-4E79-B101-B47B3521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5376-973F-440E-A3A4-DDF1D024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25A9-76D9-4354-A5FE-6EFCDF39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BE0C-9037-4B5E-A0B8-DD75F39E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7BD4-4D17-476A-A41A-E58C61EE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FD40-F84C-4D1D-BC91-D1DDBF89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CBDB-64E5-44E1-8129-FAE8869F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9CBB-FD64-4672-A342-C1865387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39D-86F1-4227-B552-0ED60EDB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D038-E96E-4FC1-B296-3BA493FE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9E65-3FF6-473B-8B7D-7AADE5B7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8FFF-7FA3-489B-98B8-69CD603B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26D8-B5A7-43BA-B454-A7AD7F61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B282-F581-4493-A3DA-78B0A30A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A60E-4033-4921-AB45-F3DABABB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486B0-94CE-40EE-AC17-5D2B3F3F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50D4-0FB1-4C78-BF1D-3EB7321A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9CE4F-1676-498D-ABB8-11739470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0A384-B187-4DF9-8C9B-B223F086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2FE-60AE-40D8-9D81-062EE41F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34675-F8C6-4BE6-9493-2E45BEFF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0F8D0-F20B-41C3-BB11-EB7825E6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90304-446F-4EF8-8F52-68443544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FA9F5-875F-4750-B446-C4577363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7071D-E969-49A5-9F5C-53441535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5D37-AF4E-4BF7-95C5-CDA9AFE2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68CD4-4FA0-4E89-B4E9-7F90717F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AC20-D630-4A30-8304-A6733A9A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338D-B498-4E92-8DF4-C89E394F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B4B-361A-457F-8C66-3A8588A7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4B0-6446-4F4B-8428-A989093A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A29-30F8-4BB2-8133-5FE6C93E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5A3D-145D-4920-98E9-B2EF7C9F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DC1D-057A-4E1F-A9DB-AD0A08E6CAE4}" type="slidenum">
              <a:rPr b="0" lang="hu-H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E32F-FF31-4D47-B6C1-40D58D77BE1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286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C114-F71F-4940-BD27-349A35128540}" type="slidenum">
              <a:rPr b="0" lang="hu-H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ím 1" descr=""/>
          <p:cNvPicPr/>
          <p:nvPr/>
        </p:nvPicPr>
        <p:blipFill>
          <a:blip r:embed="rId1"/>
          <a:stretch/>
        </p:blipFill>
        <p:spPr>
          <a:xfrm>
            <a:off x="920880" y="1920960"/>
            <a:ext cx="7186320" cy="1487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71600" y="3643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Practice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ím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944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I went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to the zoo </a:t>
            </a: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yesterday afternoon.  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ere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ere did you go yesterday afternoon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I came to school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by car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this morning. 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How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How did you come to school this morning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ím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I had a good time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at the birthday party</a:t>
            </a: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ere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ere did you have a good time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The neighbours built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a new house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last year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at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at did the neighbours build last year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ím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I drank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coffee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in the morning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at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at did you drink in the morning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I read this book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last month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en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en did you read this book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Cím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The birds flew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to Africa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in autumn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ere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ere did the birds fly in autumn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He broke his leg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last week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en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en did he break his leg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ím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The dog bit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the postman </a:t>
            </a: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yesterday morning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o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o did the dog bite yesterday morning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I got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a present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for my birthday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at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at did you get for your birthday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Cím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We learnt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new words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in the English lesson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at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at did you learn in the English lesson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he drew a flower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on the wall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ere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ere did she draw a flower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ím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he tore the letter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because she was angry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y did she tear the letter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He did his homework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in his bedroom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ere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ere did he do his homework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Cím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He left his money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on the bus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ere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ere did he leave his money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8:14:31Z</dcterms:created>
  <dc:creator>Library</dc:creator>
  <dc:description/>
  <dc:language>en-US</dc:language>
  <cp:lastModifiedBy>Library</cp:lastModifiedBy>
  <dcterms:modified xsi:type="dcterms:W3CDTF">2012-10-18T13:11:30Z</dcterms:modified>
  <cp:revision>12</cp:revision>
  <dc:subject/>
  <dc:title>Irregular Verbs</dc:title>
</cp:coreProperties>
</file>